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ECD0-DC30-4527-8A67-B7EF6BC3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9DE-6F5F-423E-BB8A-32CEBA84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453A-20CC-452E-BD17-646E4CB0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0D9-5E1D-4BF3-86C1-AD78A8F5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CD0-BF7C-4707-B305-994C5F1B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347B-2ACB-454D-B27A-F8BE257E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785-93EC-46C2-9377-2D089270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EB2-58F9-4275-87D4-F8FFBE9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56F-0EBE-47AA-8E06-20FB639D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631-F3D0-49D4-9685-9705C9F1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FCD-8EF2-4953-9236-DC1B9FE7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1C8-0B83-414E-9E2E-842BAFCD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7159-2FBB-4D99-A14F-19D479978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800" spc="-1" strike="noStrike">
                <a:solidFill>
                  <a:srgbClr val="c00000"/>
                </a:solidFill>
                <a:latin typeface="Arial"/>
              </a:rPr>
              <a:t>CREATING A CAREER PLANNING PORTFO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owner\AppData\Local\Microsoft\Windows\Temporary Internet Files\Content.IE5\MGPQKUQY\MC910217613[1].wmf"/>
          <p:cNvPicPr/>
          <p:nvPr/>
        </p:nvPicPr>
        <p:blipFill>
          <a:blip r:embed="rId1"/>
          <a:stretch/>
        </p:blipFill>
        <p:spPr>
          <a:xfrm>
            <a:off x="2514600" y="2763720"/>
            <a:ext cx="373392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6600"/>
                </a:solidFill>
                <a:latin typeface="Calibri"/>
              </a:rPr>
              <a:t>ACADEMIC AND TECHNICAL SKILLS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Transcript or Report Card</a:t>
            </a: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Aw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Best Work Examp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Samples of Computer Skil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Project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Other cours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c00000"/>
                </a:solidFill>
                <a:latin typeface="Arial"/>
              </a:rPr>
              <a:t>Letters of Reference, Thank you c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Cj01346290000[1]"/>
          <p:cNvPicPr/>
          <p:nvPr/>
        </p:nvPicPr>
        <p:blipFill>
          <a:blip r:embed="rId1"/>
          <a:stretch/>
        </p:blipFill>
        <p:spPr>
          <a:xfrm>
            <a:off x="7010280" y="1371600"/>
            <a:ext cx="1595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26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c00000"/>
                </a:solidFill>
                <a:latin typeface="Calibri"/>
              </a:rPr>
              <a:t>PERSONAL MANAGEMENT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Organiz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Goal se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Managing time an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Taking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Being flex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owner\AppData\Local\Microsoft\Windows\Temporary Internet Files\Content.IE5\S6UAZJK0\MCj03634780000[1].wmf"/>
          <p:cNvPicPr/>
          <p:nvPr/>
        </p:nvPicPr>
        <p:blipFill>
          <a:blip r:embed="rId1"/>
          <a:stretch/>
        </p:blipFill>
        <p:spPr>
          <a:xfrm>
            <a:off x="6934320" y="4267080"/>
            <a:ext cx="1674720" cy="213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Users\owner\AppData\Local\Microsoft\Windows\Temporary Internet Files\Content.IE5\2D3BN2NL\MCj01500240000[1].wmf"/>
          <p:cNvPicPr/>
          <p:nvPr/>
        </p:nvPicPr>
        <p:blipFill>
          <a:blip r:embed="rId2"/>
          <a:stretch/>
        </p:blipFill>
        <p:spPr>
          <a:xfrm>
            <a:off x="4876920" y="1600200"/>
            <a:ext cx="218736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00000"/>
                </a:solidFill>
                <a:latin typeface="Calibri"/>
              </a:rPr>
              <a:t>PERSONAL MANAGEMENT SKILLS</a:t>
            </a:r>
            <a:br>
              <a:rPr sz="4000"/>
            </a:br>
            <a:r>
              <a:rPr b="1" lang="en-CA" sz="4000" spc="-1" strike="noStrike">
                <a:solidFill>
                  <a:srgbClr val="c00000"/>
                </a:solidFill>
                <a:latin typeface="Calibri"/>
              </a:rPr>
              <a:t>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Occupation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Post Secondary Research</a:t>
            </a:r>
            <a:r>
              <a:rPr b="0" lang="en-US" sz="30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Job Descri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Weekly/Daily  Schedul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Work Experience/RAP/Other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Activities you have helped organ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Community Involvement/Volunte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Future Goals and Pl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Calibri"/>
              </a:rPr>
              <a:t>Reference Letters</a:t>
            </a:r>
            <a:r>
              <a:rPr b="0" lang="en-US" sz="30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owner\AppData\Local\Microsoft\Windows\Temporary Internet Files\Content.IE5\FO30I770\MCBL00522_0000[1].wmf"/>
          <p:cNvPicPr/>
          <p:nvPr/>
        </p:nvPicPr>
        <p:blipFill>
          <a:blip r:embed="rId1"/>
          <a:stretch/>
        </p:blipFill>
        <p:spPr>
          <a:xfrm>
            <a:off x="6248520" y="1676520"/>
            <a:ext cx="2219040" cy="159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owner\AppData\Local\Microsoft\Windows\Temporary Internet Files\Content.IE5\2D3BN2NL\MCj03341520000[1].wmf"/>
          <p:cNvPicPr/>
          <p:nvPr/>
        </p:nvPicPr>
        <p:blipFill>
          <a:blip r:embed="rId2"/>
          <a:stretch/>
        </p:blipFill>
        <p:spPr>
          <a:xfrm>
            <a:off x="6400800" y="4876920"/>
            <a:ext cx="124776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6600"/>
                </a:solidFill>
                <a:latin typeface="Calibri"/>
              </a:rPr>
              <a:t>TEAMWORK/LEADERSHIP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Working with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Cooperating to reach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Respecting the views and opinion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Advising/Helping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alibri"/>
              </a:rPr>
              <a:t>L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MCj01208850000[1]"/>
          <p:cNvPicPr/>
          <p:nvPr/>
        </p:nvPicPr>
        <p:blipFill>
          <a:blip r:embed="rId1"/>
          <a:stretch/>
        </p:blipFill>
        <p:spPr>
          <a:xfrm>
            <a:off x="6324480" y="3657600"/>
            <a:ext cx="19656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6600"/>
                </a:solidFill>
                <a:latin typeface="Calibri"/>
              </a:rPr>
              <a:t>TEAMWORK/LEADERSHIP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oup Activities and Pro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Teams and Club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Yearboo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Student Counc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ommunity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Fund Rai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ultural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Letters/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Cj02304000000[1]"/>
          <p:cNvPicPr/>
          <p:nvPr/>
        </p:nvPicPr>
        <p:blipFill>
          <a:blip r:embed="rId1"/>
          <a:stretch/>
        </p:blipFill>
        <p:spPr>
          <a:xfrm>
            <a:off x="7162920" y="2438280"/>
            <a:ext cx="14936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alibri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00"/>
                </a:solidFill>
                <a:latin typeface="Calibri"/>
              </a:rPr>
              <a:t>FOR EACH ENTRY OR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ROUGH REFLECTION OR USING A SKILLS TEMPLATE, INDICATE WHAT GOALS YOU INTENDED TO ACHIEVE AND TO WHAT EXTENT THIS ACTIVITY ACHIEVED THESE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Calibri"/>
              </a:rPr>
              <a:t>Why did you include this item in your portfolio – how does it represent your skills, goals and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C:\Users\owner\AppData\Local\Microsoft\Windows\Temporary Internet Files\Content.IE5\R6K5S5FH\MC900281206[1].wmf"/>
          <p:cNvPicPr/>
          <p:nvPr/>
        </p:nvPicPr>
        <p:blipFill>
          <a:blip r:embed="rId1"/>
          <a:stretch/>
        </p:blipFill>
        <p:spPr>
          <a:xfrm>
            <a:off x="6095880" y="533520"/>
            <a:ext cx="1511280" cy="17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00"/>
                </a:solidFill>
                <a:latin typeface="Arial"/>
              </a:rPr>
              <a:t>SUCCES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MCj03974440000[1]"/>
          <p:cNvPicPr/>
          <p:nvPr/>
        </p:nvPicPr>
        <p:blipFill>
          <a:blip r:embed="rId1"/>
          <a:stretch/>
        </p:blipFill>
        <p:spPr>
          <a:xfrm>
            <a:off x="3276720" y="4191120"/>
            <a:ext cx="2666880" cy="21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Cj02377750000[1]"/>
          <p:cNvPicPr/>
          <p:nvPr/>
        </p:nvPicPr>
        <p:blipFill>
          <a:blip r:embed="rId2"/>
          <a:stretch/>
        </p:blipFill>
        <p:spPr>
          <a:xfrm>
            <a:off x="1066680" y="380880"/>
            <a:ext cx="2667240" cy="2643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j04061840000[1]"/>
          <p:cNvPicPr/>
          <p:nvPr/>
        </p:nvPicPr>
        <p:blipFill>
          <a:blip r:embed="rId3"/>
          <a:stretch/>
        </p:blipFill>
        <p:spPr>
          <a:xfrm>
            <a:off x="5791320" y="304920"/>
            <a:ext cx="2582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alibri"/>
              </a:rPr>
              <a:t>CAREER PLANNING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What is a CAREER PLANNING Portfol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Why Do a Career Planning Portfol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Th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Creating My Career planning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Organizing My Career Planning Portf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alibri"/>
              </a:rPr>
              <a:t>Pause and Refl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Cj00786260000[1]"/>
          <p:cNvPicPr/>
          <p:nvPr/>
        </p:nvPicPr>
        <p:blipFill>
          <a:blip r:embed="rId1"/>
          <a:stretch/>
        </p:blipFill>
        <p:spPr>
          <a:xfrm>
            <a:off x="7086600" y="3809880"/>
            <a:ext cx="20574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WHAT IS A PORTFOLI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alibri"/>
              </a:rPr>
              <a:t>PORT - TO CA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Calibri"/>
              </a:rPr>
              <a:t>FOLIO –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INANCIAL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RT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NGLISH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AREER PLANNING PORTFO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C:\Users\owner\AppData\Local\Microsoft\Windows\Temporary Internet Files\Content.IE5\RMSHDGWR\MC900250288[1].wmf"/>
          <p:cNvPicPr/>
          <p:nvPr/>
        </p:nvPicPr>
        <p:blipFill>
          <a:blip r:embed="rId1"/>
          <a:stretch/>
        </p:blipFill>
        <p:spPr>
          <a:xfrm>
            <a:off x="5257800" y="2743200"/>
            <a:ext cx="315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WHY A CAREER PLANNING PORTFOL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1920" y="1447560"/>
            <a:ext cx="875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ovides a record of all career plan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hroughout high school  including self assessmen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d occupation &amp; post secondary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Proves growth in skills &amp; accomplishm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rganizes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elps you understand your values, interests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trengths and reflect on appropriate caree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s well as areas for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Use it as a tool for demonstrating personal qualities, ski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nd plans in an interview – job, scholarship, post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:\Users\owner\AppData\Local\Microsoft\Windows\Temporary Internet Files\Content.IE5\RMSHDGWR\MC900441902[1].wmf"/>
          <p:cNvPicPr/>
          <p:nvPr/>
        </p:nvPicPr>
        <p:blipFill>
          <a:blip r:embed="rId1"/>
          <a:stretch/>
        </p:blipFill>
        <p:spPr>
          <a:xfrm>
            <a:off x="7623000" y="304920"/>
            <a:ext cx="152100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00"/>
                </a:solidFill>
                <a:uFillTx/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You will 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A Collection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A Binder, and/or a C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Certificates, Awards, Job Evid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Best Work, Etc., Etc.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ictures, Pictures,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age Pro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MCj03797570000[1]"/>
          <p:cNvPicPr/>
          <p:nvPr/>
        </p:nvPicPr>
        <p:blipFill>
          <a:blip r:embed="rId1"/>
          <a:stretch/>
        </p:blipFill>
        <p:spPr>
          <a:xfrm>
            <a:off x="5257800" y="4343400"/>
            <a:ext cx="2597040" cy="222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MCj02372440000[1]"/>
          <p:cNvPicPr/>
          <p:nvPr/>
        </p:nvPicPr>
        <p:blipFill>
          <a:blip r:embed="rId2"/>
          <a:stretch/>
        </p:blipFill>
        <p:spPr>
          <a:xfrm>
            <a:off x="7238880" y="609480"/>
            <a:ext cx="1535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THE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D06675_"/>
          <p:cNvPicPr/>
          <p:nvPr/>
        </p:nvPicPr>
        <p:blipFill>
          <a:blip r:embed="rId1"/>
          <a:stretch/>
        </p:blipFill>
        <p:spPr>
          <a:xfrm>
            <a:off x="533520" y="1828800"/>
            <a:ext cx="1218960" cy="1295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514600" y="23684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EP 1: SELF ASSESSMEN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AREE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BD06663_"/>
          <p:cNvPicPr/>
          <p:nvPr/>
        </p:nvPicPr>
        <p:blipFill>
          <a:blip r:embed="rId2"/>
          <a:stretch/>
        </p:blipFill>
        <p:spPr>
          <a:xfrm>
            <a:off x="5562720" y="3429000"/>
            <a:ext cx="198108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447920" y="3961080"/>
            <a:ext cx="426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TEP 2: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ATHER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V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S00559_"/>
          <p:cNvPicPr/>
          <p:nvPr/>
        </p:nvPicPr>
        <p:blipFill>
          <a:blip r:embed="rId3"/>
          <a:stretch/>
        </p:blipFill>
        <p:spPr>
          <a:xfrm>
            <a:off x="609480" y="510552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3048120" y="544896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STEP 3: ORGANIZ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80880" y="128016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STEP 4: ARRANGE</a:t>
            </a:r>
            <a:r>
              <a:rPr b="1" lang="en-US" sz="1400" spc="-1" strike="noStrike">
                <a:solidFill>
                  <a:srgbClr val="3366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76720" y="2807640"/>
            <a:ext cx="55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TEP 5: DEVELOP REFLECTIVE/SKILL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533520" y="5637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Calibri"/>
              </a:rPr>
              <a:t>STEP 6: ADD AND REV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C:\Users\owner\AppData\Local\Microsoft\Windows\Temporary Internet Files\Content.IE5\RMSHDGWR\MCj04134600000[1].wmf"/>
          <p:cNvPicPr/>
          <p:nvPr/>
        </p:nvPicPr>
        <p:blipFill>
          <a:blip r:embed="rId1"/>
          <a:stretch/>
        </p:blipFill>
        <p:spPr>
          <a:xfrm>
            <a:off x="4572000" y="4191120"/>
            <a:ext cx="2219400" cy="235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Users\owner\AppData\Local\Microsoft\Windows\Temporary Internet Files\Content.IE5\MGPQKUQY\MC900366636[1].wmf"/>
          <p:cNvPicPr/>
          <p:nvPr/>
        </p:nvPicPr>
        <p:blipFill>
          <a:blip r:embed="rId2"/>
          <a:stretch/>
        </p:blipFill>
        <p:spPr>
          <a:xfrm>
            <a:off x="4572000" y="1255680"/>
            <a:ext cx="2514600" cy="1359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:\Users\owner\AppData\Local\Microsoft\Windows\Temporary Internet Files\Content.IE5\QXY2AMDI\MC900056928[1].wmf"/>
          <p:cNvPicPr/>
          <p:nvPr/>
        </p:nvPicPr>
        <p:blipFill>
          <a:blip r:embed="rId3"/>
          <a:stretch/>
        </p:blipFill>
        <p:spPr>
          <a:xfrm>
            <a:off x="380880" y="2638440"/>
            <a:ext cx="3079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00"/>
                </a:solidFill>
                <a:latin typeface="Calibri"/>
              </a:rPr>
              <a:t>THIS IS 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03280" y="234936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76520" y="34290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vantGarde Bk BT"/>
              </a:rPr>
              <a:t>What am I goo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700360" y="4343400"/>
            <a:ext cx="568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vantGarde Bk BT"/>
              </a:rPr>
              <a:t>What is important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564000" y="525780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vantGarde Bk BT"/>
              </a:rPr>
              <a:t>What do I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Cj03974800000[1]"/>
          <p:cNvPicPr/>
          <p:nvPr/>
        </p:nvPicPr>
        <p:blipFill>
          <a:blip r:embed="rId1"/>
          <a:stretch/>
        </p:blipFill>
        <p:spPr>
          <a:xfrm>
            <a:off x="230040" y="3809880"/>
            <a:ext cx="1979640" cy="245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MCj03981450000[1]"/>
          <p:cNvPicPr/>
          <p:nvPr/>
        </p:nvPicPr>
        <p:blipFill>
          <a:blip r:embed="rId2"/>
          <a:stretch/>
        </p:blipFill>
        <p:spPr>
          <a:xfrm>
            <a:off x="6477120" y="2217600"/>
            <a:ext cx="2361960" cy="224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6600"/>
                </a:solidFill>
                <a:latin typeface="Arial"/>
              </a:rPr>
              <a:t>ACADEMIC AND TECHNICAL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Communicat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Managing Information, including technic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inform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Using numerical skill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Using 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Being creativ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Calibri"/>
              </a:rPr>
              <a:t>Being able to think and solve problem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c00000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6572160" y="3357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7:17:19Z</dcterms:created>
  <dc:creator>Norma Thompson</dc:creator>
  <dc:description/>
  <dc:language>en-US</dc:language>
  <cp:lastModifiedBy>owner</cp:lastModifiedBy>
  <dcterms:modified xsi:type="dcterms:W3CDTF">2010-11-22T21:52:39Z</dcterms:modified>
  <cp:revision>54</cp:revision>
  <dc:subject/>
  <dc:title>CREATING A  CAREER PLANNING PORTFOLIO</dc:title>
</cp:coreProperties>
</file>